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5943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5943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5943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5943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5943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5943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5943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5943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5943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5943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5943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920" y="63244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5562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629400" y="228600"/>
            <a:ext cx="2220840" cy="12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hr </a:t>
            </a:r>
            <a:r>
              <a:rPr b="1" lang="en-US" sz="4000" spc="-1" strike="noStrike">
                <a:solidFill>
                  <a:srgbClr val="465e75"/>
                </a:solidFill>
                <a:latin typeface="Times New Roman"/>
              </a:rPr>
              <a:t>Sicherheit und Ordnu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durch bürgerschaftliches Engagement und Dialog - das </a:t>
            </a:r>
            <a:r>
              <a:rPr b="1" lang="en-US" sz="4000" spc="-1" strike="noStrike">
                <a:solidFill>
                  <a:srgbClr val="465e75"/>
                </a:solidFill>
                <a:latin typeface="Times New Roman"/>
              </a:rPr>
              <a:t>Forum Gewal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in Wieslo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hr </a:t>
            </a:r>
            <a:r>
              <a:rPr b="1" lang="en-US" sz="2400" spc="-1" strike="noStrike">
                <a:solidFill>
                  <a:srgbClr val="465e75"/>
                </a:solidFill>
                <a:latin typeface="Times New Roman"/>
              </a:rPr>
              <a:t>Sicherheit und Ordnu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urch bürgerschaftliches Engagement und Dialog - das </a:t>
            </a:r>
            <a:r>
              <a:rPr b="1" lang="en-US" sz="2400" spc="-1" strike="noStrike">
                <a:solidFill>
                  <a:srgbClr val="465e75"/>
                </a:solidFill>
                <a:latin typeface="Times New Roman"/>
              </a:rPr>
              <a:t>Forum Gewa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Wiesl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Ausgangsthe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ie Stimmung ist meist schlechter als die Lage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s Sicherheitsempfinden der Bürgerinnen und Bürger ist vielfach stärker beeinträchtigt als ihre Sicherhe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er das Sicherheitsempfinden stärken will, braucht den aktiven Bür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ktive Bürger produzieren Sicherhe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hr </a:t>
            </a:r>
            <a:r>
              <a:rPr b="1" lang="en-US" sz="2400" spc="-1" strike="noStrike">
                <a:solidFill>
                  <a:srgbClr val="465e75"/>
                </a:solidFill>
                <a:latin typeface="Times New Roman"/>
              </a:rPr>
              <a:t>Sicherheit und Ordnu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urch bürgerschaftliches Engagement und Dialog - das </a:t>
            </a:r>
            <a:r>
              <a:rPr b="1" lang="en-US" sz="2400" spc="-1" strike="noStrike">
                <a:solidFill>
                  <a:srgbClr val="465e75"/>
                </a:solidFill>
                <a:latin typeface="Times New Roman"/>
              </a:rPr>
              <a:t>Forum Gewa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Wiesl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e kam es zum Forum Gewal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walttäti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kalation bei Abiturfeie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d von rechtsradikalen Materiali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 Sommer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tive der SPD-Fraktion im  Gemeinder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 Juli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lunge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ftaktveranstaltung im November 2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f Einladung der Stadt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hr </a:t>
            </a:r>
            <a:r>
              <a:rPr b="1" lang="en-US" sz="2400" spc="-1" strike="noStrike">
                <a:solidFill>
                  <a:srgbClr val="465e75"/>
                </a:solidFill>
                <a:latin typeface="Times New Roman"/>
              </a:rPr>
              <a:t>Sicherheit und Ordnu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urch bürgerschaftliches Engagement und Dialog - das </a:t>
            </a:r>
            <a:r>
              <a:rPr b="1" lang="en-US" sz="2400" spc="-1" strike="noStrike">
                <a:solidFill>
                  <a:srgbClr val="465e75"/>
                </a:solidFill>
                <a:latin typeface="Times New Roman"/>
              </a:rPr>
              <a:t>Forum Gewa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Wiesl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e sieht die Struktur des Forums a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4724280"/>
            <a:ext cx="67820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ftaktveranst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581280"/>
            <a:ext cx="9907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3581280"/>
            <a:ext cx="9907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3581280"/>
            <a:ext cx="9907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581280"/>
            <a:ext cx="99036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82880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58128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48640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46748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581280" y="2971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486400" y="2971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hr </a:t>
            </a:r>
            <a:r>
              <a:rPr b="1" lang="en-US" sz="2400" spc="-1" strike="noStrike">
                <a:solidFill>
                  <a:srgbClr val="465e75"/>
                </a:solidFill>
                <a:latin typeface="Times New Roman"/>
              </a:rPr>
              <a:t>Sicherheit und Ordnu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urch bürgerschaftliches Engagement und Dialog - das </a:t>
            </a:r>
            <a:r>
              <a:rPr b="1" lang="en-US" sz="2400" spc="-1" strike="noStrike">
                <a:solidFill>
                  <a:srgbClr val="465e75"/>
                </a:solidFill>
                <a:latin typeface="Times New Roman"/>
              </a:rPr>
              <a:t>Forum Gewa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Wiesl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lche Arbeitskreise wurden eingericht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eitskreis 1: 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zei und Jug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eitskreis 2: 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ule, Jugend, Ausbildung, Zukunftsperspek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eitskreis 3: 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ivilcourage, Moralität, Gemeinschaften, Soziale Kompeten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eitskreis 4: 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bensräu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hr </a:t>
            </a:r>
            <a:r>
              <a:rPr b="1" lang="en-US" sz="2400" spc="-1" strike="noStrike">
                <a:solidFill>
                  <a:srgbClr val="465e75"/>
                </a:solidFill>
                <a:latin typeface="Times New Roman"/>
              </a:rPr>
              <a:t>Sicherheit und Ordnu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urch bürgerschaftliches Engagement und Dialog - das </a:t>
            </a:r>
            <a:r>
              <a:rPr b="1" lang="en-US" sz="2400" spc="-1" strike="noStrike">
                <a:solidFill>
                  <a:srgbClr val="465e75"/>
                </a:solidFill>
                <a:latin typeface="Times New Roman"/>
              </a:rPr>
              <a:t>Forum Gewa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Wiesl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lche Ergebnisse wurden bisher erziel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beitskreis „Jugend und Polizei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urden die Vorkommnisse des Sommers aufgearbeitet, die Jugendlichen über ihre Rechte und Pflichten aufgeklärt und ein Informationsblatt der Polizei erläutert. Im Folgejahr gab es keine vergleichbaren Vorkommnisse bei den Fei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Arbeitskreis „Schule...“ wurde e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tionstag “Gewalt überwinden” an allen Wieslocher Schu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ganisiert. In einem zweiten Schritt befasst sich der Arbeitskreis nun mit der Thematik Zukunftsperspektive (Ausbildung und Arbeit) von Jugendliche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hr </a:t>
            </a:r>
            <a:r>
              <a:rPr b="1" lang="en-US" sz="2400" spc="-1" strike="noStrike">
                <a:solidFill>
                  <a:srgbClr val="465e75"/>
                </a:solidFill>
                <a:latin typeface="Times New Roman"/>
              </a:rPr>
              <a:t>Sicherheit und Ordnu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urch bürgerschaftliches Engagement und Dialog - das </a:t>
            </a:r>
            <a:r>
              <a:rPr b="1" lang="en-US" sz="2400" spc="-1" strike="noStrike">
                <a:solidFill>
                  <a:srgbClr val="465e75"/>
                </a:solidFill>
                <a:latin typeface="Times New Roman"/>
              </a:rPr>
              <a:t>Forum Gewa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Wiesl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Welche Ergebnisse wurden erzielt (2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Arbeitskreis „Zivilcourage...“ konnten über die Landeszentrale für politische Bildung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diationskurs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organisiert und durchgeführt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Arbeitskreis 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bensräu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 erstellte ein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Überblick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zu (Frei-) Räumen für Jugendliche und diskutierte 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ndlungsbedar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 Die Ergebnisse gingen in die Beratungen des (Jugend-) Gemeinderats ein. Unterdessen befindet sich sowohl eine Partyfläche im Freien sowie ein Veranstaltungsraum in Planung und Umsetzu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hr </a:t>
            </a:r>
            <a:r>
              <a:rPr b="1" lang="en-US" sz="2400" spc="-1" strike="noStrike">
                <a:solidFill>
                  <a:srgbClr val="465e75"/>
                </a:solidFill>
                <a:latin typeface="Times New Roman"/>
              </a:rPr>
              <a:t>Sicherheit und Ordnu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urch bürgerschaftliches Engagement und Dialog - das </a:t>
            </a:r>
            <a:r>
              <a:rPr b="1" lang="en-US" sz="2400" spc="-1" strike="noStrike">
                <a:solidFill>
                  <a:srgbClr val="465e75"/>
                </a:solidFill>
                <a:latin typeface="Times New Roman"/>
              </a:rPr>
              <a:t>Forum Gewa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Wiesl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ist das Besondere am Forum Gewal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hes und kontinuierlich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agement der Beteiligt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 bereits bestehender Vielfalt an bürgerschaftlichem Engagement in der 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ment in einem für bürgerschaftliches Engagement noch eher untypisch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men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ilnehmer-Mix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a. Vertreter von Kirchen, Schulen, Polizei, Mitarbeiter der Stadtverwaltung, (Jugend-) Gemeinderäte, Bürgerinnen und Bü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gebnisorientierung bei wenig Steu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hr </a:t>
            </a:r>
            <a:r>
              <a:rPr b="1" lang="en-US" sz="2400" spc="-1" strike="noStrike">
                <a:solidFill>
                  <a:srgbClr val="465e75"/>
                </a:solidFill>
                <a:latin typeface="Times New Roman"/>
              </a:rPr>
              <a:t>Sicherheit und Ordnu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urch bürgerschaftliches Engagement und Dialog - das </a:t>
            </a:r>
            <a:r>
              <a:rPr b="1" lang="en-US" sz="2400" spc="-1" strike="noStrike">
                <a:solidFill>
                  <a:srgbClr val="465e75"/>
                </a:solidFill>
                <a:latin typeface="Times New Roman"/>
              </a:rPr>
              <a:t>Forum Gewa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Wiesl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in mögliches Faz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ürgerschaftliches Engagement und Dialo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d e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lüss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 meh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cherheit und Ordnu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unseren Städ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ürgerinnen und Bürger brauch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ebote und professionelle Unterstützu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Ihre Einsatzbereitschaft muss „abgeholt“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9T10:24:52Z</dcterms:created>
  <dc:creator>Lars Castellucci</dc:creator>
  <dc:description/>
  <dc:language>en-US</dc:language>
  <cp:lastModifiedBy>k7ge00</cp:lastModifiedBy>
  <dcterms:modified xsi:type="dcterms:W3CDTF">2006-11-10T09:14:46Z</dcterms:modified>
  <cp:revision>8</cp:revision>
  <dc:subject/>
  <dc:title>Kein Folientitel</dc:title>
</cp:coreProperties>
</file>